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45B-A00E-4664-B710-4FD43BE8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0FD-EBA5-4E87-A565-112B536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027-1AC8-4675-8D73-5B49DED8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994-096D-4D80-944B-5D13163C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088-D278-4022-BE58-E355FC28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C682-E432-47AB-AB05-868BD52A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9BAC-8498-480C-8517-D15280FC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7EDD-9532-4DC5-ACE6-DA1FC3E7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8A4-A354-4137-A496-3ABDD7F9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5A23-1635-4A82-B8F4-A702BE4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3A1E-7C69-4607-8789-CC9E72FB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F29-6471-48D9-9BA0-98A68363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3EEB-7BBB-457A-929C-E024ACB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883C-6462-4539-AE38-269BA892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F163-AF88-4BAB-A832-2C178E3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F54F-B1BF-475B-8FC6-883C1A34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636B-6C08-4380-B752-0AC0F4B7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EB3-9DA8-4327-82EA-724C0FE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7C7-C453-480F-A7DA-3A181B36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0F8-1DBE-4983-B319-BAFDF944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8CE-D7B0-4FF8-9CD8-0F2AF9F4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EA2-988F-40D4-BC25-0940EEA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C12-7A18-432E-BB1A-5335223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8F8-C198-46E6-A259-A05B5A28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72A8-22A4-43BA-8770-656FD5163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0049-081E-4570-AC2C-7C73165C0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14400" y="380880"/>
            <a:ext cx="79246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ahoma"/>
              </a:rPr>
              <a:t>Habit #2</a:t>
            </a:r>
            <a:br>
              <a:rPr sz="10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egin with the End in Mi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work Stephen Co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inish_line"/>
          <p:cNvPicPr/>
          <p:nvPr/>
        </p:nvPicPr>
        <p:blipFill>
          <a:blip r:embed="rId1"/>
          <a:stretch/>
        </p:blipFill>
        <p:spPr>
          <a:xfrm>
            <a:off x="3886200" y="5029200"/>
            <a:ext cx="2333520" cy="15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809880" y="533520"/>
            <a:ext cx="43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Journal Entry 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scussion Start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362320" y="2666880"/>
            <a:ext cx="54864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How does saying “no” sometimes help you with “beginning with the end in mind”?  What things do you have to say no to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457200" y="533520"/>
            <a:ext cx="28954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34f00"/>
                  </a:solidFill>
                  <a:miter/>
                </a:ln>
                <a:solidFill>
                  <a:srgbClr val="834f00"/>
                </a:solidFill>
                <a:latin typeface="Tahoma"/>
              </a:rPr>
              <a:t>"NO."</a:t>
            </a:r>
            <a:endParaRPr b="0" lang="en-US" sz="1800" spc="1" strike="noStrike">
              <a:ln w="9360">
                <a:solidFill>
                  <a:srgbClr val="834f00"/>
                </a:solidFill>
                <a:miter/>
              </a:ln>
              <a:solidFill>
                <a:srgbClr val="834f00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143000" y="3657600"/>
            <a:ext cx="678168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Finish these sentences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~If I my future had no limits, I would choose to be….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~I want to be a person wh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uture_clip_art"/>
          <p:cNvPicPr/>
          <p:nvPr/>
        </p:nvPicPr>
        <p:blipFill>
          <a:blip r:embed="rId1"/>
          <a:stretch/>
        </p:blipFill>
        <p:spPr>
          <a:xfrm>
            <a:off x="2362320" y="380880"/>
            <a:ext cx="4038480" cy="28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u="sng">
                <a:solidFill>
                  <a:srgbClr val="000000"/>
                </a:solidFill>
                <a:uFillTx/>
                <a:latin typeface="Tahoma"/>
              </a:rPr>
              <a:t>Credits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46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s slide show was created b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becca Radicchi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sing the following resour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057400" y="2971800"/>
            <a:ext cx="62485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The Seven Habits for Highly Effective Peop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y Stephen Cov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The Seven Habits for Highly Effective Kid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y Sean Cov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The Seven Habits for Highly Effective Teen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y Sean Cov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533520" y="3352680"/>
            <a:ext cx="79246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 plan ahead and set goals. I do things that have meaning and make a difference. I am an important part of my classroom. I look for ways to be a good citize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goal-2007-749865"/>
          <p:cNvPicPr/>
          <p:nvPr/>
        </p:nvPicPr>
        <p:blipFill>
          <a:blip r:embed="rId1"/>
          <a:stretch/>
        </p:blipFill>
        <p:spPr>
          <a:xfrm>
            <a:off x="2438280" y="380880"/>
            <a:ext cx="4051440" cy="304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914400" y="762120"/>
            <a:ext cx="43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Journal Entry 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scussion Start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133720" y="2971800"/>
            <a:ext cx="60958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What is “the end” for you?  What do you hope to be doing ten years from now?  Twenty?  Make a list of things you want to do in your lif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telescope"/>
          <p:cNvPicPr/>
          <p:nvPr/>
        </p:nvPicPr>
        <p:blipFill>
          <a:blip r:embed="rId1"/>
          <a:stretch/>
        </p:blipFill>
        <p:spPr>
          <a:xfrm>
            <a:off x="5715000" y="457200"/>
            <a:ext cx="2149560" cy="214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1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1905120"/>
            <a:ext cx="53337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Before you figure out the “end”, you have to take a look at who YOU are!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raw a picture of something that represents you.  It could be an animal, plant, machine, a food, etc.  Explain why you chose what you di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t_16427"/>
          <p:cNvPicPr/>
          <p:nvPr/>
        </p:nvPicPr>
        <p:blipFill>
          <a:blip r:embed="rId1"/>
          <a:stretch/>
        </p:blipFill>
        <p:spPr>
          <a:xfrm>
            <a:off x="380880" y="1600200"/>
            <a:ext cx="2843280" cy="371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newspaper_clip_art"/>
          <p:cNvPicPr/>
          <p:nvPr/>
        </p:nvPicPr>
        <p:blipFill>
          <a:blip r:embed="rId1"/>
          <a:stretch/>
        </p:blipFill>
        <p:spPr>
          <a:xfrm>
            <a:off x="3048120" y="3505320"/>
            <a:ext cx="3135240" cy="276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6"/>
          <p:cNvSpPr/>
          <p:nvPr/>
        </p:nvSpPr>
        <p:spPr>
          <a:xfrm>
            <a:off x="762120" y="685800"/>
            <a:ext cx="7696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 ten years a newspaper decides to do a story about YOU!  They interview four people about you.  These could be friends or family.  What would you want them to say about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ssion Statement, Part 1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your name in a circle.  Out from the circle, write words that describe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429000" y="2971800"/>
            <a:ext cx="2743200" cy="152388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733920" y="34290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6172200" y="1981080"/>
            <a:ext cx="2286000" cy="91440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6553080" y="4419720"/>
            <a:ext cx="1905120" cy="76176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1066680" y="1981080"/>
            <a:ext cx="1905120" cy="76212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2666880" y="5334120"/>
            <a:ext cx="1905120" cy="76176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858000" y="457200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ki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705720" y="2133720"/>
            <a:ext cx="152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thle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371600" y="213372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rtis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95480" y="548640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ea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 flipH="1">
            <a:off x="3809880" y="44197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5943600" y="28191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5943600" y="4191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 flipV="1">
            <a:off x="2666520" y="26665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066680" y="3808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ssion Statement, Part 2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think about what kind of person you WANT to be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90920" y="1828800"/>
            <a:ext cx="4952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want to be 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rd wo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ood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ind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lented ar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1066680" y="3808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ssion Statement, Part 3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two lists to write a mission statement.  This is a sentence or paragraph about the person you want to be.  Here are some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057400" y="2133720"/>
            <a:ext cx="6172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y mission is t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augh a l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earn as much I 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ork hard at home, school and in my s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e kind to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ake good care of myself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o get better at my a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ow good are you at beginning with the end in min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57200" y="2971800"/>
            <a:ext cx="20574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 always keep the end in mi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934320" y="3200400"/>
            <a:ext cx="2209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 only think about to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95680" y="5181480"/>
            <a:ext cx="4191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Why did you rate yourself this w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0" y="1752480"/>
            <a:ext cx="8686800" cy="1295640"/>
          </a:xfrm>
          <a:prstGeom prst="leftRightArrow">
            <a:avLst>
              <a:gd name="adj1" fmla="val 43630"/>
              <a:gd name="adj2" fmla="val 58324"/>
            </a:avLst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2:18:49Z</dcterms:created>
  <dc:creator>Cobb County School District</dc:creator>
  <dc:description/>
  <dc:language>en-US</dc:language>
  <cp:lastModifiedBy>NHBOE</cp:lastModifiedBy>
  <dcterms:modified xsi:type="dcterms:W3CDTF">2013-11-22T16:44:16Z</dcterms:modified>
  <cp:revision>18</cp:revision>
  <dc:subject/>
  <dc:title>The Seven Habits of Highly Effective People</dc:title>
</cp:coreProperties>
</file>